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F59C4-9C55-4ACD-8B28-279AFF973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4C9CB-BFAA-4A73-8B85-8E7140BE9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857DD-AD55-48A4-9313-8756204AB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C8456-04ED-4E53-8FCD-C4CD4B613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E243E-43DA-4B6B-9346-30FA326E6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DF435-E7C8-424D-85A6-AFEA77350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777AC-8A8E-4DDA-A21E-609947F93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64AEF-3840-4F8C-83B5-656C1FB57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F24FA-F62F-4B33-B621-0B4D8EA34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7723D-4E70-452F-948F-A6752A0E4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8CAC2-A050-4C1F-990A-971191694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47561-7AC8-46FC-A020-F9ECF84F1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D08C9-BE61-4025-8FE1-6E1F44D6D6B3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048440" y="121428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8963" y="-32344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148520" y="15210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589640" y="174456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89213" y="4000"/>
                </a:lnTo>
                <a:lnTo>
                  <a:pt x="89213" y="-16594"/>
                </a:lnTo>
                <a:lnTo>
                  <a:pt x="-68438" y="-37294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410160" y="105732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250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068960" y="1809720"/>
            <a:ext cx="9144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4350" y="-50850"/>
                </a:moveTo>
                <a:lnTo>
                  <a:pt x="-1800" y="40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19840" y="11574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597640" y="196524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43425" y="4000"/>
                </a:lnTo>
                <a:lnTo>
                  <a:pt x="43425" y="-25313"/>
                </a:lnTo>
                <a:lnTo>
                  <a:pt x="-109950" y="-5473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570720" y="620640"/>
            <a:ext cx="914400" cy="914400"/>
          </a:xfrm>
          <a:prstGeom prst="borderCallout3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062840" y="231156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43888" y="-49725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380280" y="247032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ounded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618160" y="203688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51150" y="4000"/>
                </a:lnTo>
                <a:lnTo>
                  <a:pt x="51150" y="-29925"/>
                </a:lnTo>
                <a:lnTo>
                  <a:pt x="-125475" y="-63956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Oval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Cloud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380360" y="912960"/>
            <a:ext cx="914400" cy="914400"/>
          </a:xfrm>
          <a:prstGeom prst="borderCallout1">
            <a:avLst>
              <a:gd name="adj1" fmla="val -161588"/>
              <a:gd name="adj2" fmla="val -1800"/>
              <a:gd name="adj3" fmla="val 18900"/>
              <a:gd name="adj4" fmla="val -18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265880" y="208764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-169791"/>
              <a:gd name="adj4" fmla="val -6331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151680" y="1077840"/>
            <a:ext cx="91440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313541"/>
              <a:gd name="adj5" fmla="val -129689"/>
              <a:gd name="adj6" fmla="val -6303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805280" y="158112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64500" y="4000"/>
                </a:lnTo>
                <a:lnTo>
                  <a:pt x="64500" y="-11138"/>
                </a:lnTo>
                <a:lnTo>
                  <a:pt x="-71850" y="-2638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140440" y="40968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48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34:46Z</dcterms:created>
  <dc:creator>tb121644</dc:creator>
  <dc:description/>
  <dc:language>en-US</dc:language>
  <cp:lastModifiedBy>tb121644</cp:lastModifiedBy>
  <dcterms:modified xsi:type="dcterms:W3CDTF">2005-05-25T12:19:33Z</dcterms:modified>
  <cp:revision>2</cp:revision>
  <dc:subject/>
  <dc:title>Slide 1</dc:title>
</cp:coreProperties>
</file>