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7E1-D273-4CA5-8F79-EB74DD33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7010-C1C9-434F-AAAE-E79032F0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599A7-FD67-41DF-B3F9-0DCE61B2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8F05A-820A-4DF5-9F5B-4A627804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A7903-987D-46C4-BC28-7661BB13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5977F-8629-477E-ABFF-862EB296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7D022-7743-47CF-BAAD-8E6B91FA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6E27A-CA0F-4E28-BF16-85464707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D071C-504B-4F9A-B50F-122F550D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7EF9A-0C68-4A16-9841-3C365EFB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7D005-AD7B-41A0-B8F8-0F5081B7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DE6C50-CA4C-45F3-B3A4-703BA351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3958-F3AC-404F-ADC1-9AC15587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0D9A07-3227-49F8-BA20-5627C630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4E8980-4B87-40A7-A147-535AC1B9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1A60EB-3A7D-4179-A23C-F9EBC862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39D1B1-94D9-451F-AD34-0EBBD331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0638A4-B21B-45DE-8BC6-C71579D0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C46E94-550F-4186-B680-35677558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23066B-1059-4C82-9D84-4CF282D9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F39354-555F-4C91-A553-62A47841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9B44F6-B2A0-4141-97FA-2E12103F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540EF1-533C-4416-83D7-987608BB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761-71FA-44EF-B2F9-F3D11C85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6C7AEF-ABF9-429D-B7ED-343F5CD3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25B6B-1012-444A-A504-5D5C0E36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9934A-1B25-4F5E-A05E-B8475FE6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D679F-674D-4D0F-B01A-597DDD4E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EF6DE-D4B3-47E2-9197-99E601E6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029A2-FDCC-400E-9753-89F11517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72B19-A3CA-4D8D-A4F5-5393E0C8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A9286-FD70-4921-A20A-00A7E5EB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94470-5234-46C9-8400-9E6E653D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4EED7-6234-4C98-82CA-04E6CAE3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3544-FAA8-4C06-9DDD-9BA13C43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83818-9DCB-4939-BC48-508EF728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1212F-8C90-40E0-99C0-F115B034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36D9F-E4D8-406C-99E7-D35E8496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B02F2-B485-40A7-9690-E0C1FE9A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B292A-8B4D-4F63-AB4B-C15E5286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443BB-DB86-4917-88D3-7F4D7256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3DFAC-5DE3-4398-999A-8CBED63A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F6C6C-4997-4302-962F-8AE02FD3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154D0-1DA5-45FF-9418-CA1B1927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B4C88-9DC6-4333-92F1-4FDD8371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87A2-5617-4878-AFEC-EA1198EA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145A1-272A-4699-BA12-996744B4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B2E5E-97BA-4623-9AB5-1DA501A3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2F17F-3957-47E3-9286-F39BF81F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BBDC1-7CD9-466E-82AD-29C11EC3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8B018-A3EA-4F64-82DE-282FBCBE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F39A-1F1D-463D-B6D1-D399DAC6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7321-3792-4B68-82EF-74E7792A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D95D-1D2E-4B5C-8FF6-2E38C533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2E15-D06D-4C94-8C53-AC5EBAF5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02C8-78F7-4306-8201-6AF5ACA1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3DA-49CD-4C0A-AF81-8E153186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57D6-5702-44F2-AE45-6BEDEBF2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37F6-2F42-4695-BCCB-2FA3D297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0D99-2F2E-4FE4-ABB1-B7133934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2859-A6C7-4DE8-BA68-5C235BD7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C38A-6EC6-4663-B82A-5ED4730A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D7C73-50A2-4159-8B15-B1495E24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9323B-9ACE-4197-A851-1DA00A34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2A8CD-AAF3-4A5A-97C0-E1129BE8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7651C-47EF-434B-A8ED-293408AC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1DCC4-4960-41AB-A869-DC268A88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EA04-25EB-43DF-83E3-914F931E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15B3D-7D87-430A-9CE9-89B4C221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F2848-B3DE-470D-BABC-034F86F8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329DF-3F1B-4314-8724-93320896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29CD7-BA1C-4F25-B419-031661EB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73C30-BC6F-48EE-A44D-B6838457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48CD5-1EEA-442E-B06D-8044AEEF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F93B6-416E-4366-9C5A-DD2C5E9D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57117-ADAE-448F-B691-7A3A19B4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3F697-1F56-42C1-8841-FA08FC46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846D3-F0BE-4592-8BA2-DA321E41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951-2E0F-4DB5-8324-78642628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F3FBB-56C5-4352-8D48-8095D75D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D9549-1F75-4163-A00F-A785C07C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248E7-FFF0-425A-9E3D-3F79E87D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80ADF-3BA6-410F-8EA2-C66131C3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A6AC9-2728-463C-B6C2-DC234ECB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6CCE6-6A7A-452A-96C5-03E3F8FD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78CC7-4639-47E4-9CF6-7B14B348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2A307-5B75-4806-BCA7-9858550C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A8C64-3551-4FC5-A31B-2D3A5A29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26314A-5D81-45E2-BDA2-5B48FB01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AAE2-37B9-4253-9025-584F18D3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D9749-B91E-4131-9CC2-7E7E6125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155FAC-0153-48B1-8BA0-31D67836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74FA0A-75ED-43FE-994C-388BC5B5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2F89BE-5DFC-47C3-847A-D5676BFA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CAB4FF-2E9E-42F5-9216-A5652DC8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9B4B98-6C0E-4AA2-A2A2-2DBAFDB9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526421-BFC4-4B03-A222-2133563C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78281-BEF8-4C60-A18E-3A1EB827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E26CF2-69EA-49C3-9180-2AA4EDEE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7D0C6-BED0-4AF5-BAF9-79B30A02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994-B5E3-46E4-BC90-0BAA53C6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21278E-2C5C-4173-8A9C-06878543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5D25C-0F39-40D1-B5F2-0A2AAAE1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224EE-B6EA-4807-B1AF-07CB4C28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F7E8F-BF26-4A1A-B9D5-33217042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E3DBA-30BE-4DAA-9E26-634F2460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66D78-9E10-4525-AA8A-E39C4D03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BC08E-5EDE-4083-9398-20BD872B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31B7F-3720-4C75-AF2A-09355B17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94B40-F420-4DE0-BFF2-C5AB4A0D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20E3C-93D0-4723-A9A8-3726BE0F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A290-E7E8-4680-AA03-065A7613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D5357-EF45-467E-94BD-8AB27A87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930FA-3444-449E-916D-D20740BF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BC58C-0A22-41C3-AD27-769C8DDB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D77E3-9A47-411E-9A59-584D20D6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924B9-E5F0-41E5-BB9A-2288920F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03A0A-79FE-403E-BEEC-4C48DBE3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A79ED-41C4-4F70-8EFE-C0D0B8C3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B2CB3-973D-49A1-95AB-A306E9F4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6D10C-D2C6-4BF0-987B-038F6E22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C07A0-1B2A-4744-83A4-5F599AB9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EDF-3328-49D8-A4ED-07176C39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AEDCE-DB4A-44CC-88D9-96CCE503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D9E8E-84EE-490C-8930-D7B006D7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8C06E-7AF5-420C-89A7-C0B7C0C4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982B4-2C63-4D29-8077-0332D20A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A2623-CFA0-4B2B-B55B-FA5F778A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0A038-ABB1-4148-9327-2276A940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7D4C3-CD15-49F5-9688-3FE8BEDB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CB2AC-896B-44A7-A7CA-45176E09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CAFF9-3D3C-4283-B427-96C23AF9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BE64A-F98D-4500-BEE6-8847E9A4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EA6-782E-4A41-8519-DFCF4145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F700E-81EC-4267-9432-1D2947BC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09583-A76C-498E-AB8B-F3214966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30000-E379-4EB8-B38D-DB6D8B87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7FB3B-F0AB-437D-AC71-3D7520DC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DA331-E771-40C0-BCE1-1F2B03C2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F6C49-4EB9-4CE7-A5F9-EE5FBD82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FA88F-9C43-435C-B679-171FCF4A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617F8-E3C2-41B5-8E32-326EB2CE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BF3CF-057F-4C39-B88F-9EBC558C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09F01-A041-4035-8065-BD3F4BAD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A6D1-57DD-4231-A691-A9D301ED793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E893-B5EC-41B8-BD44-4526CA6C37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712D-7D22-44E1-AB46-0C3099BA175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4E30-EA31-4890-9C62-BDD010B92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B0BB-6E6B-45E5-B229-4C3FF0C1818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4927-1F17-477A-80D2-3051C485D50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4336-1AFA-4E60-8D00-7CAB3F56537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47E1-16F8-4489-BC06-CB34A3C55DC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26C5-B9F3-43FF-9CD8-BD18BC72682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1FFA-B6BC-46E3-8C04-FA2220937A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D62E-4D2A-4BA1-BF37-8B9D382EAFE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FC79-5CE3-4614-8A96-6BDF92EC0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A0DF-F77F-4565-8AF6-3B0AB6E42F7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506A-B17E-4819-945F-EB39F948A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A628-0816-4F60-AA7B-64042F609BC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CDC4-2718-47A2-90DD-C34020D252C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26B4-9181-4ACA-B926-4A7E3532C32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C7A8-D705-4598-B34C-C2509EF435E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FBDD-0016-4606-B4EE-DD24798B8BF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89FB-AD9A-4382-A068-EC5785B8AE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D368-4CCE-4023-82C8-F26BDAFB3F8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FAA6-87ED-4BBA-AFA4-5E367DB23C0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E659-FD51-4760-9092-965857E9987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FF27-0053-442D-B21B-4359E2630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EE38-F7EB-45D5-B2B3-457D3AF347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50038-C54D-472D-B9CC-776AA56D9027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17D13-E258-46C7-8563-35A3E9D9CA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0BEB230-6AC7-4ECC-B155-F15B57506E1E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0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outHorizontal)" transition="out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3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BD2A0-B5CB-43F7-B60E-6213FE16D156}" type="slidenum">
              <a:t>3</a:t>
            </a:fld>
          </a:p>
        </p:txBody>
      </p:sp>
    </p:spTree>
  </p:cSld>
  <p:transition>
    <p:comb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0F9916-E38E-4558-A0D2-340300BA08C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6A2EC5C-7209-4562-BDAA-AFD148829BD9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9577B-AE35-415E-841E-CE60591E3F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70FC410E-E2BA-4723-8FBB-D22364EA9D7A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7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9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C195E-0B9E-4427-B416-88F75821C14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5879D181-963A-41FA-B064-7FACE98A6765}" type="datetime1">
              <a:rPr lang="en-US"/>
              <a:t>07/28/26</a:t>
            </a:fld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