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E1168-0018-46F6-9D6D-74229C07C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0C3D9-9B1E-4365-A341-2758E516C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97FA3-BC57-4E1F-9E66-24E1F2302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083E7-4431-4BB6-A922-FA35BB55F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257B7-3BE9-4393-8C5F-7A8A6C8AE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F9761-BC9A-4233-AEC3-4D8E8B11F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EE445-A784-423C-839C-58EE2831D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19E2A-5D7E-4B01-8668-1D242865F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C106B-6C91-4917-AC1D-9B1AC1CEB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AE771-06A8-4CB0-BEE0-D92CA9E4B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1C6E3-4156-4899-8ECD-6308ADE7B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BDBF2-5A1A-4BC9-AE3C-115F4916A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89013-525E-4A5D-BA17-43D54FB06B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19200" y="1400040"/>
          <a:ext cx="6105600" cy="405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9200" y="1400040"/>
                    <a:ext cx="610560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3:31Z</dcterms:created>
  <dc:creator>Oliver Craemer</dc:creator>
  <dc:description/>
  <dc:language>en-US</dc:language>
  <cp:lastModifiedBy>Oliver Craemer</cp:lastModifiedBy>
  <dcterms:modified xsi:type="dcterms:W3CDTF">2005-01-06T09:23:42Z</dcterms:modified>
  <cp:revision>1</cp:revision>
  <dc:subject/>
  <dc:title>Slide 1</dc:title>
</cp:coreProperties>
</file>