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06750"/>
        <c:axId val="5682964"/>
      </c:barChart>
      <c:catAx>
        <c:axId val="57006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964"/>
        <c:crosses val="autoZero"/>
        <c:auto val="1"/>
        <c:lblAlgn val="ctr"/>
        <c:lblOffset val="100"/>
        <c:noMultiLvlLbl val="0"/>
      </c:catAx>
      <c:valAx>
        <c:axId val="5682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6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942-4D3F-4F8D-8891-80219B6D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4CA-E0D8-4DF6-94F4-7E836F3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B69-A307-4F8D-9176-358199E3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E4D-4EE0-4C92-88EB-3DAFBB7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2BD-8798-4CA9-8926-E212B782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46D-148D-44F0-A8B1-598C7704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F68-8EAF-4547-9365-0EEE3868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C60-9409-43D5-BB88-B729D9B5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9D8-B606-4F89-AE93-3A31918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BC7-121E-45BC-8B1B-1C8CBEC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B90-D181-4800-8AD3-607ABEB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ED9-F920-4B2D-B459-1038008E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7EB5E-A1FF-494F-9C5B-C0D05271C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