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802678"/>
        <c:axId val="13217423"/>
      </c:barChart>
      <c:catAx>
        <c:axId val="97802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17423"/>
        <c:crosses val="autoZero"/>
        <c:auto val="1"/>
        <c:lblAlgn val="ctr"/>
        <c:lblOffset val="100"/>
        <c:noMultiLvlLbl val="0"/>
      </c:catAx>
      <c:valAx>
        <c:axId val="132174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02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D187-A1A3-4867-A6F9-3D9D63C6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6AF0-232B-46E7-BBF7-576DA261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A3E-BC35-445E-B8BF-4B88A1DC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9ABA-1AF8-44E5-A46B-041FAE09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345-E106-4EDC-9700-D16FEFEC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9474-A77C-42F6-A462-DCF32CFA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8D88-CB79-4F50-BAD0-3DB67A83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5B6-D644-4649-9A71-85AE581C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AB95-81A4-479E-8895-1D46A7F6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35F2-05FC-4A24-A80F-4B80DDF4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A43-7110-4E97-9BD0-11BAEE35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AB1-145F-4DED-80DB-63F4CD48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27BCE-7D54-4D1B-8B55-1FEF415700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