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7236"/>
        <c:axId val="84279668"/>
      </c:barChart>
      <c:catAx>
        <c:axId val="31157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9668"/>
        <c:crosses val="autoZero"/>
        <c:auto val="1"/>
        <c:lblAlgn val="ctr"/>
        <c:lblOffset val="100"/>
        <c:noMultiLvlLbl val="0"/>
      </c:catAx>
      <c:valAx>
        <c:axId val="84279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7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401-7A0D-48AA-922B-C18603A5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127-9322-4F85-8D5E-D9771673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047-0588-40AE-BE91-ED19DDA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77E-C8C8-4F91-91B4-F2C69079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5D9-8746-4CB2-9EC2-4B88E2C4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701-DCCB-4D0B-8A55-99A81A5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A0C-CB54-425B-B112-45E5B57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627-D24A-4BCE-AB81-ECC7255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835-C602-429D-90A3-D1FF5849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611-F3D3-45EE-9E52-2BAE81D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22E-EDA7-4D66-958A-3BF326E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0A2-7FFF-456D-BE53-75AD955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B9EC2-304C-43A8-BE5E-49B481F688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