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28335"/>
        <c:axId val="37322404"/>
      </c:barChart>
      <c:catAx>
        <c:axId val="47128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22404"/>
        <c:crosses val="autoZero"/>
        <c:auto val="1"/>
        <c:lblAlgn val="ctr"/>
        <c:lblOffset val="100"/>
        <c:noMultiLvlLbl val="0"/>
      </c:catAx>
      <c:valAx>
        <c:axId val="37322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28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73A-B678-4ADA-911D-152F9CC7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4C8-9404-4F5C-AE62-2109B11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3B0-F347-4E7B-A84E-43AAF7E8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332-00E6-4979-AB37-671961E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854-78A2-438F-A750-14EE0B1A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E16-E83F-4851-81E1-AC9866A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284-A7B1-4946-9CBF-30D1F78D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CB9-8B50-4B7F-BFA4-FBA102F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10F-F350-4FC7-81A6-8342D47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CE9-6AA9-4E47-BF8C-01CACBB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94C-D94D-4CE1-B078-3F3E426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D1C-B9BE-4222-BE79-ABB254E3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5A496-BD28-43E4-BDC2-349B2AE71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