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57301"/>
        <c:axId val="21357027"/>
      </c:barChart>
      <c:catAx>
        <c:axId val="87257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7027"/>
        <c:crosses val="autoZero"/>
        <c:auto val="1"/>
        <c:lblAlgn val="ctr"/>
        <c:lblOffset val="100"/>
        <c:noMultiLvlLbl val="0"/>
      </c:catAx>
      <c:valAx>
        <c:axId val="21357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57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EEC-1B32-422F-907A-96DA15AC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F98-408A-4E1D-A30C-B59ABF88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301-BB0A-4A81-BD1D-78B5996F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A7D-245C-4E59-B22D-5C10947C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B13-6805-423B-8B22-7F3FA5B2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F15-C9B4-42B9-BB7A-2E31D19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9DD-A28A-4997-9B54-263E33C7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FE2-E33A-48AD-8BB2-24A90836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A13-3EEE-4BB4-BE2A-E5CCE060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7FB-BC87-422B-B716-7664AD5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4C9-9BF0-40D0-8D56-7CA15B13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C280-077F-4D6C-97FF-01609ABD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E4076-B909-4565-87D9-CB49BA61C7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