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31345"/>
        <c:axId val="36627869"/>
      </c:barChart>
      <c:catAx>
        <c:axId val="15531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27869"/>
        <c:crosses val="autoZero"/>
        <c:auto val="1"/>
        <c:lblAlgn val="ctr"/>
        <c:lblOffset val="100"/>
        <c:noMultiLvlLbl val="0"/>
      </c:catAx>
      <c:valAx>
        <c:axId val="36627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31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FC6-C68A-444B-AAA0-444F7FDB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316-4F83-40BB-8545-0DAA2A94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0DE-56F2-4A11-9B83-A19EBAD0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243-22EA-4660-A4DF-0C9DB981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59D-0882-4D00-8F27-F5A9B630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F8A-0DA5-4376-9015-6E099926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71D-B519-452A-BA64-C297105C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51E1-D738-4501-8CAF-F29EDA59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6FC-DD13-45FA-94DD-58C1226E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AC6-07A6-418C-B637-BDADED02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3F88-2069-4560-ABEF-3191AB83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E18-981B-4B6A-AADD-32C99D75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12FC9-A936-40DA-82B1-7DFE5CF747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