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7435094"/>
        <c:axId val="533303"/>
      </c:barChart>
      <c:catAx>
        <c:axId val="1743509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33303"/>
        <c:crosses val="autoZero"/>
        <c:auto val="1"/>
        <c:lblAlgn val="ctr"/>
        <c:lblOffset val="100"/>
        <c:noMultiLvlLbl val="0"/>
      </c:catAx>
      <c:valAx>
        <c:axId val="53330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743509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95F51-84A6-43D1-B48C-21F85869E7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2E8222-237A-4AEE-B7F7-9AEB0C19E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29B0-4B17-4078-A7E9-BB96FB6FAA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1F586E-64FA-44D7-B1AA-8FF5095673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5F2BD-61A9-40B6-A157-675318BF8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CBB2C-9059-413A-A308-885925BF13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93AF9E-F514-4263-901E-285A65A939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C324-13CF-477A-953E-3097024E9B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F94233-1446-4965-98A1-74872A685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19F3D-D16F-4D80-98D7-3443F9A3C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C9AD1-AEF8-41E5-B8D0-29A7ABA2F0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BE7CE1-64A6-4495-BFE4-DF50B61DA1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F73F364-4790-44A9-8718-A368F0841D3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